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38EA-40E5-4E93-AB3B-2AEF2BEBD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2A1B-3BA2-49FC-A96F-3A2834F93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E555-0321-4407-B2A1-BDDDA78E5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8663-D19C-4CA0-8661-EB6954AC3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F0CC-EC91-4430-A707-1FBFF3BFA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EB1A-3F53-4899-B616-18361C5C5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4AB9-4D35-4A0E-A4C6-F1217853D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A228-DC11-4E22-BAA0-12A8102AA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3D18-32B8-4DB6-97E6-2730619DE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945E-8723-4287-83C1-CEBA8EEAC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FC83-4BD4-422C-9648-D5010CDF8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2E80-ADB9-456F-A2D9-187D3807F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CA5EB-686A-4FA9-95E2-62E9C6DE995C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대구한의대부속 대구한방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표자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최창항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Welcome to Paradis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356000" y="1599840"/>
            <a:ext cx="4788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물리치료사 선생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6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출근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8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업무시작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9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~ 5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점심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12:30 ~ 2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실습일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기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라인을 잘 타야 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차로 가는 게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인사 가는 게 좋음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9280" y="2606760"/>
            <a:ext cx="4038840" cy="25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수고하셨습니다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7:45:20Z</dcterms:created>
  <dc:creator>경상대 컴퓨터실 프린터</dc:creator>
  <dc:description/>
  <dc:language>en-US</dc:language>
  <cp:lastModifiedBy>경상대 컴퓨터실 프린터</cp:lastModifiedBy>
  <dcterms:modified xsi:type="dcterms:W3CDTF">2009-04-09T07:47:38Z</dcterms:modified>
  <cp:revision>2</cp:revision>
  <dc:subject/>
  <dc:title>대구한의대부속 대구한방병원</dc:title>
</cp:coreProperties>
</file>